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341C-2BA6-4C4A-972E-0451BC9630A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8431-1837-42BF-9D42-8557D5810E5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4116-C76D-43EB-B0A9-E514E7A3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2167-7CAB-495C-802D-F02BEFD2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22A-057D-4001-9B5C-B20EAC73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6D1B-684F-4160-93F2-FC6374BF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633-1E28-4A1D-9E50-96E06B38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2AC-9E6E-40A5-9849-850FB30F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F004-E74E-448B-BC96-D5FE4F67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FC5F-A758-4957-8395-86B3BA64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F149-4115-434F-934A-55E9B0A6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7D14-6E29-4A69-8CBC-EA8FC481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78E-D9BA-4273-8455-27AA8303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543C-8B84-4C6B-9C27-8E9C83D1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8560" y="643572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220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6920" y="643572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98E7-335C-4F34-81ED-A40DF0F761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..\cronograma 2&#186; semeste\Cronograma - PNTE.doc" TargetMode="External"/><Relationship Id="rId2" Type="http://schemas.openxmlformats.org/officeDocument/2006/relationships/hyperlink" Target="..\..\Visitas bimestrais\visita bimestral - Luciana\cronograma 2&#186; semeste\Cronograma - PSTE.doc" TargetMode="External"/><Relationship Id="rId3" Type="http://schemas.openxmlformats.org/officeDocument/2006/relationships/hyperlink" Target="Cronograma - completo.doc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RONOGRAMA - fragelli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7120" y="119664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E DRº JOSÉ M. F. FRAGELLI  ANGÉLICA  - 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4920" y="450072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285840" y="2000160"/>
            <a:ext cx="8497800" cy="165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1357200" y="4357800"/>
            <a:ext cx="3629160" cy="1361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6643800" y="528624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VESPER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ESSOR MIRKO DONISETE RODRIGUES BARB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ixaDeTexto 5"/>
          <p:cNvSpPr/>
          <p:nvPr/>
        </p:nvSpPr>
        <p:spPr>
          <a:xfrm>
            <a:off x="1571760" y="5357880"/>
            <a:ext cx="507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715080" y="5286240"/>
            <a:ext cx="1695600" cy="79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247680" y="2071800"/>
            <a:ext cx="8896320" cy="1695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3"/>
          <a:stretch/>
        </p:blipFill>
        <p:spPr>
          <a:xfrm>
            <a:off x="785880" y="4357800"/>
            <a:ext cx="363852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ixaDeTexto 5"/>
          <p:cNvSpPr/>
          <p:nvPr/>
        </p:nvSpPr>
        <p:spPr>
          <a:xfrm>
            <a:off x="2857680" y="5214960"/>
            <a:ext cx="3571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643800" y="5286240"/>
            <a:ext cx="1695240" cy="790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333360" y="2000160"/>
            <a:ext cx="8810640" cy="1657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"/>
          <p:cNvPicPr/>
          <p:nvPr/>
        </p:nvPicPr>
        <p:blipFill>
          <a:blip r:embed="rId3"/>
          <a:stretch/>
        </p:blipFill>
        <p:spPr>
          <a:xfrm>
            <a:off x="785880" y="4357800"/>
            <a:ext cx="361008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aixaDeTexto 5"/>
          <p:cNvSpPr/>
          <p:nvPr/>
        </p:nvSpPr>
        <p:spPr>
          <a:xfrm>
            <a:off x="2428920" y="5357880"/>
            <a:ext cx="3643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6715080" y="5357880"/>
            <a:ext cx="1695600" cy="790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2"/>
          <a:stretch/>
        </p:blipFill>
        <p:spPr>
          <a:xfrm>
            <a:off x="214200" y="2286000"/>
            <a:ext cx="8929800" cy="1838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"/>
          <p:cNvPicPr/>
          <p:nvPr/>
        </p:nvPicPr>
        <p:blipFill>
          <a:blip r:embed="rId3"/>
          <a:stretch/>
        </p:blipFill>
        <p:spPr>
          <a:xfrm>
            <a:off x="1000080" y="4500720"/>
            <a:ext cx="3591000" cy="13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85840" y="2214720"/>
            <a:ext cx="8497800" cy="1647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1000080" y="4286160"/>
            <a:ext cx="3648240" cy="1352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6715080" y="535788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NOTUR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85480" y="221436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ESSOR THIAGO DA SILVA NA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ixaDeTexto 5"/>
          <p:cNvSpPr/>
          <p:nvPr/>
        </p:nvSpPr>
        <p:spPr>
          <a:xfrm>
            <a:off x="2643120" y="528624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572160" y="5286240"/>
            <a:ext cx="1695600" cy="790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2"/>
          <a:stretch/>
        </p:blipFill>
        <p:spPr>
          <a:xfrm>
            <a:off x="304920" y="2071800"/>
            <a:ext cx="8839080" cy="1562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3"/>
          <a:stretch/>
        </p:blipFill>
        <p:spPr>
          <a:xfrm>
            <a:off x="928800" y="4214880"/>
            <a:ext cx="3619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aixaDeTexto 5"/>
          <p:cNvSpPr/>
          <p:nvPr/>
        </p:nvSpPr>
        <p:spPr>
          <a:xfrm>
            <a:off x="3357720" y="5357880"/>
            <a:ext cx="3000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572160" y="5286240"/>
            <a:ext cx="1695600" cy="790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2"/>
          <a:stretch/>
        </p:blipFill>
        <p:spPr>
          <a:xfrm>
            <a:off x="214200" y="2071800"/>
            <a:ext cx="8744040" cy="1562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3"/>
          <a:stretch/>
        </p:blipFill>
        <p:spPr>
          <a:xfrm>
            <a:off x="857160" y="4071960"/>
            <a:ext cx="35910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ixaDeTexto 5"/>
          <p:cNvSpPr/>
          <p:nvPr/>
        </p:nvSpPr>
        <p:spPr>
          <a:xfrm>
            <a:off x="2286000" y="5357880"/>
            <a:ext cx="4286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429240" y="5286240"/>
            <a:ext cx="1695600" cy="790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8643960" cy="1808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3"/>
          <a:stretch/>
        </p:blipFill>
        <p:spPr>
          <a:xfrm>
            <a:off x="571680" y="4357800"/>
            <a:ext cx="36576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lguns pontos que devem ser mudados para o bom andamento do trabalho na S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s ações que foram desenvolvidas pelos professores multiplicadores (NTE – STE)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, analisar e refletir a respeito do uso da STE da escola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laborar cronograma de ações dos professores da STE no 2º semestre para formação in lo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85840" y="2071800"/>
            <a:ext cx="8497800" cy="1573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1000080" y="4357800"/>
            <a:ext cx="3638520" cy="1361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6429240" y="52862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999800"/>
            <a:ext cx="8497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 Sociologia’, Prod. Interativ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Português, Geografia, História,  Ciências, Química, Biolog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36,1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63,8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Vesper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 Produções Interativ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Língua Portuguesa, Ed. Física, História, Geografia, Língua Est., Artes, Matemátic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33,3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66,6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Notur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 Ed. Física, Língua Est., Ciênci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Artes, Geografia, Química, Física, Literatura, Matemática, História  e Filosof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 64,7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 35,2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aixaDeTexto 4"/>
          <p:cNvSpPr/>
          <p:nvPr/>
        </p:nvSpPr>
        <p:spPr>
          <a:xfrm>
            <a:off x="5214960" y="3214800"/>
            <a:ext cx="3571920" cy="580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urno que apresentou menos uso: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Notu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NS PONTOS PARA REFLETIR: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comunicação entre PNTE e PSTE deve ser constan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e-mails devem ser lidos por tod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MSN deve ficar ligado no período em que o Professor da STE estiver na sal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prazos deverão ser cumpridos, podendo ser alterado com justificativa prévi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responsabilizado o profissional que não cumprir com suas atribuições (professor do NTE, STE e professores regentes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construído portfólio online das atividades desenvolvidas na S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odos os planos de aula dos professores deverão ser assinados pelo coordenador do turn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20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horas, disponibilizará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18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ulas para planejamento junto aos coordenadores e professores regente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10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horas disponibilizará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9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para planejamento junto à coordenação e professores regente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1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adro de planejamento mensal do professor da STE deverá se adequar ao horário de atividades do professor regente, acompanhado pelos coorden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professor da STE deve ser responsável pelo preenchimento do relatório de utilização de seu tur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uso das mídias extern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ombinad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Quadro de PL do professor da STE de cada mês será elaborado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m acordo com a coordenação pedagógica e direção da es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nvio do quadro de PL e relatório será até o 5º dia útil de cada mê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urno que optar pelas aulas programadas, as mesmas deverão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aminhadas ao NTE, no quadro de P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o 10º dia útil de cada mês o Professor do NTE se reunirá com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 da STE para discutirem as ações desenvolvidas no mê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evistas para o mês segui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lanos de aula entregue pelos professores regentes devem es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izados em pasta, de forma cronológica e de fácil acesso, p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salmente o professor do NTE fará visita para conferir os relató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serão consideradas as aulas registradas sem 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lano do professo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da plano deve conter no máximo 2 aulas, mais 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sso é necessário projeto de ensin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rá elaborado portfólio on-line das atividades desenvolvid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STE para orientações pedagógic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prazos de atividades previstas, não justificadas e n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umpridas serão registradas em documento própri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orientações serão feitas por e-mail ou pessoalmen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ofessores que receberem capacitação e não mostrarem interesse em ser capacitados assumirão as responsabil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professor da STE se responsabilizará em fazer a relação dos professores que não utilizaram a STE no decorrer do mê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4 - Apresentar e discutir cronograma de ações NTE/STE para o 2º semestre de 2009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onograma de ação do P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onograma de ação do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ronograma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 e junh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4. Apresentar e discutir cronograma de ações NTE/STE para o 2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ço Reservado para Rodapé 3"/>
          <p:cNvSpPr/>
          <p:nvPr/>
        </p:nvSpPr>
        <p:spPr>
          <a:xfrm>
            <a:off x="1763640" y="6408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lte não a seus medos,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 Papa João XXIII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aixaDeTexto 4"/>
          <p:cNvSpPr/>
          <p:nvPr/>
        </p:nvSpPr>
        <p:spPr>
          <a:xfrm>
            <a:off x="92880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REFLEXÃ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70563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.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onograma do plano de ação -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Rodapé 3"/>
          <p:cNvSpPr/>
          <p:nvPr/>
        </p:nvSpPr>
        <p:spPr>
          <a:xfrm>
            <a:off x="1692360" y="6408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TU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ESSORA PATRÍCIA BOGAZ TREVI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428760" y="2138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5"/>
          <p:cNvSpPr/>
          <p:nvPr/>
        </p:nvSpPr>
        <p:spPr>
          <a:xfrm>
            <a:off x="7072200" y="5286240"/>
            <a:ext cx="1714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ixaDeTexto 11"/>
          <p:cNvSpPr/>
          <p:nvPr/>
        </p:nvSpPr>
        <p:spPr>
          <a:xfrm>
            <a:off x="6429240" y="557208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7572240" y="5857920"/>
            <a:ext cx="1266840" cy="59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285840" y="2000160"/>
            <a:ext cx="8497800" cy="164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"/>
          <p:cNvPicPr/>
          <p:nvPr/>
        </p:nvPicPr>
        <p:blipFill>
          <a:blip r:embed="rId3"/>
          <a:stretch/>
        </p:blipFill>
        <p:spPr>
          <a:xfrm>
            <a:off x="785880" y="3786120"/>
            <a:ext cx="4333680" cy="1666800"/>
          </a:xfrm>
          <a:prstGeom prst="rect">
            <a:avLst/>
          </a:prstGeom>
          <a:ln w="0">
            <a:noFill/>
          </a:ln>
        </p:spPr>
      </p:pic>
      <p:sp>
        <p:nvSpPr>
          <p:cNvPr id="109" name="Conector reto 20"/>
          <p:cNvSpPr/>
          <p:nvPr/>
        </p:nvSpPr>
        <p:spPr>
          <a:xfrm flipH="1">
            <a:off x="783720" y="3787920"/>
            <a:ext cx="1800" cy="1643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6715080" y="5214960"/>
            <a:ext cx="1695600" cy="790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2"/>
          <a:stretch/>
        </p:blipFill>
        <p:spPr>
          <a:xfrm>
            <a:off x="314280" y="2041560"/>
            <a:ext cx="8615520" cy="1887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"/>
          <p:cNvPicPr/>
          <p:nvPr/>
        </p:nvPicPr>
        <p:blipFill>
          <a:blip r:embed="rId3"/>
          <a:stretch/>
        </p:blipFill>
        <p:spPr>
          <a:xfrm>
            <a:off x="1285920" y="4357800"/>
            <a:ext cx="36003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aixaDeTexto 5"/>
          <p:cNvSpPr/>
          <p:nvPr/>
        </p:nvSpPr>
        <p:spPr>
          <a:xfrm>
            <a:off x="1071720" y="507204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6643800" y="5286240"/>
            <a:ext cx="1695240" cy="790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285840" y="2286000"/>
            <a:ext cx="8858160" cy="199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3"/>
          <a:stretch/>
        </p:blipFill>
        <p:spPr>
          <a:xfrm>
            <a:off x="642960" y="4572000"/>
            <a:ext cx="36100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4:15:31Z</dcterms:created>
  <dc:creator>Luciana Catarino</dc:creator>
  <dc:description/>
  <dc:language>en-US</dc:language>
  <cp:lastModifiedBy>RONILVA</cp:lastModifiedBy>
  <dcterms:modified xsi:type="dcterms:W3CDTF">2009-07-30T18:31:18Z</dcterms:modified>
  <cp:revision>78</cp:revision>
  <dc:subject/>
  <dc:title>EE LUIZ SOARES ANDRADE  NOVA ANDRADINA - MS</dc:title>
</cp:coreProperties>
</file>